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33B-E6FC-4353-B814-1381DF36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40A-F25E-4FE4-BA79-5D53C686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D34-0FFF-434F-BBFB-D9EA5E3F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2F0-B43F-49D1-BA28-907FD64E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9FA6-8709-449F-9920-042565F3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1B12-5812-442D-948F-48A75F88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8315-F581-48E9-942A-64928A20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8FE6-43FE-4683-AC2A-78ECDECD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0B6A-44DB-4EC3-8B2D-52609D72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3E7B-0C8D-4B40-9F95-3B35639A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0865-FA83-41A2-8C96-78655E80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EF8-6F94-4FEB-9C10-2E31752C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FF35-7FC3-4C6E-97DD-2B28640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25A8-C6B8-4355-907E-8785CC8D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A49C-4D83-4076-BFD4-CB522202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AC1B-BFF1-4F26-B4A1-321FB025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0221-2C76-4E25-8B65-E2BA72CF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29F-619C-41EA-ADBE-482EAD20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107-ADEE-465C-B886-A89F6046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CA0-4583-47BC-89BB-AEE2B931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051-800C-460F-BF67-AF8788F8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4F9-9F87-47F0-9955-9366DD3C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7B6-01B8-42ED-AFDD-5EDFC1C4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F56-7BAE-442D-8830-A70E73AE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EA75-4D36-4D28-9BCD-89B28ABC24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76F4-B587-4984-B190-626BDBD857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Verdana"/>
              </a:rPr>
              <a:t>Insinöörityö:</a:t>
            </a:r>
            <a:br>
              <a:rPr sz="3600"/>
            </a:br>
            <a:r>
              <a:rPr b="0" lang="fi-FI" sz="3600" spc="-1" strike="noStrike">
                <a:solidFill>
                  <a:srgbClr val="000000"/>
                </a:solidFill>
                <a:latin typeface="Verdana"/>
              </a:rPr>
              <a:t>Suomen transitoliikenteen rakenne, tavaravirrat ja tulevaisuus. (-04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Tekijä: Andrei Danichev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Valvoja/Ohjaaja: Markku haiko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Verdana"/>
              </a:rPr>
              <a:t>Tavoite, Tarkoitus ja Raja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Tavoitteena selvittää Suomen transitoliikenteen yleispiirtee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Verrata Baltian transito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Löytää parannusehdotuk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Käsittelee Suomen kautta Venäjälle ja IVY-maihin kulkevaa liikennett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Vertaa Vastaavaan Baltias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Verdana"/>
              </a:rPr>
              <a:t>Raken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Pakolli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Bewen esitte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Transito/välityskauppa määritte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Transito liikennemuodoitta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Me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Rautat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Maant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Johtopäätökse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Verdana"/>
              </a:rPr>
              <a:t>Tyy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Selkeä raken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Pääosin hyvää kielt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Insinöörityömäinen ulkoas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Helppo luk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Käsitteitä käytetty selkeästi ja oik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Verdana"/>
              </a:rPr>
              <a:t>Mok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Paljon nettiaineisto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14/23 lähteistä verkkoaineisto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Ilmansuunnat sekais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Perusteettomia väittämi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Vähän siirtokuormauksi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joustamaton työvoiman käyttömahdollisuus”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merenkulkumaksujen rakenne”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Verdana"/>
              </a:rPr>
              <a:t>Mok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Värikkäitä kielikuvi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Yhdentyminen syleilee Venäjää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Utopistisia toive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Verdana"/>
              </a:rPr>
              <a:t>Suomen kuljetuskustannuksia pitäisi alentaa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Perustuu paljolti ”yleiseen tietoon”. Hyvin vähän omaa tai kriittistä ajattelu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Verdana"/>
              </a:rPr>
              <a:t>Mok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Käytännössä kirjallisuusselvity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Kuviin ja taulukoihin ei ole suoraan viitattu ydintekstissä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Verdana"/>
              </a:rPr>
              <a:t>Mitään selkeää käyttöä työlle vaikea keksi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09:26Z</dcterms:created>
  <dc:creator>Patrick Ståhl</dc:creator>
  <dc:description/>
  <dc:language>en-US</dc:language>
  <cp:lastModifiedBy>Patrick Ståhl</cp:lastModifiedBy>
  <dcterms:modified xsi:type="dcterms:W3CDTF">2007-10-08T15:41:52Z</dcterms:modified>
  <cp:revision>2</cp:revision>
  <dc:subject/>
  <dc:title>Insinöörityö: Suomen transitoliikenteen rakenne, tavaravirrat ja tulevaisuus.</dc:title>
</cp:coreProperties>
</file>