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7C3E-64DF-40D7-A976-177E3109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Osataanko tehdä it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arempi antaa rutinoituneelle ammattiaiselle jos mahdollista .. LAKISÄÄTEINE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ilitoimiston valinta.. Seuraavassa ongelm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7D3-13FC-4353-BA39-67BC4BCA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046-D37E-4D37-8237-8BA2F731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98B-9F55-4A7B-A313-A46F64C9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180-9810-4A26-9FFC-E6E99F0A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DE95-0899-42C0-98FC-0A9AD570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5C8F-BBD9-4E46-8E26-EC272C93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48A8-40CC-4254-8A15-A2237A1D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D47B-1B6C-4DC0-8727-236C0B1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2536-60A7-4FBC-B70E-5D717D74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BC01-18B7-4EC6-940B-C9304631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C550-80C7-4942-AE44-8F073B1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3D6-61FD-4636-9E57-77D1A577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6F56-792D-4304-B1C0-410421F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ED37-EA46-44D4-BC6C-CF5F5E83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8957-104D-4803-8B41-705B81ED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E43-9B00-4CFA-87BC-39C6325C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2658-904C-4B9A-A79B-507C34D8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ECF-321F-4339-87A5-7DD466F8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73A-F0E3-485F-96D3-8BEA388A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95E-3DA3-439D-A87E-A0BF6D5A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58B-FC8D-4C8D-A6B8-374E87C6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4E4-E7E1-4B5E-ABCD-1CD65FB9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8CB-25E0-456A-BDBE-D8B470EF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E10-4E47-40E2-9845-BAC3254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0CC3-C84C-408B-84F5-43E0440868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4EEA-FA58-44B1-BAB5-AFB0A2D50E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1523520"/>
            <a:ext cx="7637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6633"/>
                </a:solidFill>
                <a:latin typeface="Garamond"/>
              </a:rPr>
              <a:t>KUSTANNUSLASKENTA KULJETUSYRITYKSEN PÄÄTÖKSENTEOSSA JA </a:t>
            </a:r>
            <a:br>
              <a:rPr sz="3200"/>
            </a:br>
            <a:r>
              <a:rPr b="1" lang="fi-FI" sz="3200" spc="-1" strike="noStrike">
                <a:solidFill>
                  <a:srgbClr val="006633"/>
                </a:solidFill>
                <a:latin typeface="Garamond"/>
              </a:rPr>
              <a:t>TOIMINNAN SEURAAMISESS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5229360"/>
            <a:ext cx="33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trick Ståhl AL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4.12.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6633"/>
                </a:solidFill>
                <a:latin typeface="Garamond"/>
              </a:rPr>
              <a:t>Kustannuslaskennan järjestämin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uunniteltava ja sovittava toimintaan huol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likar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ikein kohdistetut kustann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Jos käytetään tilitoimist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litoimiston tehtävä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alkkahallin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aportointi (mitä, millo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6633"/>
                </a:solidFill>
                <a:latin typeface="Garamond"/>
              </a:rPr>
              <a:t>Kustannusten kohdistamisen ongelma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1520" y="2252160"/>
            <a:ext cx="783756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oniasiakasongel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ppaletavara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Odotusaikakustannuk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astaus / Purkuaj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yhjänä ajon kustannuk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6633"/>
                </a:solidFill>
                <a:latin typeface="Garamond"/>
              </a:rPr>
              <a:t>Tärkeimmät kannattavuuden tunnusluvut ja niiden kaavat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80326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100" spc="-1" strike="noStrike">
                <a:solidFill>
                  <a:srgbClr val="000000"/>
                </a:solidFill>
                <a:latin typeface="Arial"/>
              </a:rPr>
              <a:t>Myyntikate</a:t>
            </a:r>
            <a:r>
              <a:rPr b="0" lang="fi-FI" sz="2100" spc="-1" strike="noStrike">
                <a:solidFill>
                  <a:srgbClr val="000000"/>
                </a:solidFill>
                <a:latin typeface="Arial"/>
              </a:rPr>
              <a:t> = Myyntituotot – Muuttuvat kustannuks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100" spc="-1" strike="noStrike">
                <a:solidFill>
                  <a:srgbClr val="000000"/>
                </a:solidFill>
                <a:latin typeface="Arial"/>
              </a:rPr>
              <a:t>Käyttökate</a:t>
            </a:r>
            <a:r>
              <a:rPr b="0" lang="fi-FI" sz="2100" spc="-1" strike="noStrike">
                <a:solidFill>
                  <a:srgbClr val="000000"/>
                </a:solidFill>
                <a:latin typeface="Arial"/>
              </a:rPr>
              <a:t> = Myyntikate – Kiinteät kustannuks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100" spc="-1" strike="noStrike">
                <a:solidFill>
                  <a:srgbClr val="000000"/>
                </a:solidFill>
                <a:latin typeface="Arial"/>
              </a:rPr>
              <a:t>Liikevoitto</a:t>
            </a:r>
            <a:r>
              <a:rPr b="0" lang="fi-FI" sz="2100" spc="-1" strike="noStrike">
                <a:solidFill>
                  <a:srgbClr val="000000"/>
                </a:solidFill>
                <a:latin typeface="Arial"/>
              </a:rPr>
              <a:t> = Käyttökate – Poisto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100" spc="-1" strike="noStrike">
                <a:solidFill>
                  <a:srgbClr val="000000"/>
                </a:solidFill>
                <a:latin typeface="Arial"/>
              </a:rPr>
              <a:t>Rahoitustulos</a:t>
            </a:r>
            <a:r>
              <a:rPr b="0" lang="fi-FI" sz="2100" spc="-1" strike="noStrike">
                <a:solidFill>
                  <a:srgbClr val="000000"/>
                </a:solidFill>
                <a:latin typeface="Arial"/>
              </a:rPr>
              <a:t> = Käyttökate – Rahoituskulut – Välittömät vero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100" spc="-1" strike="noStrike">
                <a:solidFill>
                  <a:srgbClr val="000000"/>
                </a:solidFill>
                <a:latin typeface="Arial"/>
              </a:rPr>
              <a:t>Nettotulos</a:t>
            </a:r>
            <a:r>
              <a:rPr b="0" lang="fi-FI" sz="2100" spc="-1" strike="noStrike">
                <a:solidFill>
                  <a:srgbClr val="000000"/>
                </a:solidFill>
                <a:latin typeface="Arial"/>
              </a:rPr>
              <a:t> = Rahoitustulos – Poisto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6633"/>
                </a:solidFill>
                <a:latin typeface="Garamond"/>
              </a:rPr>
              <a:t>Katetuot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98400" y="1197000"/>
            <a:ext cx="8229600" cy="5221440"/>
            <a:chOff x="698400" y="1197000"/>
            <a:chExt cx="8229600" cy="5221440"/>
          </a:xfrm>
        </p:grpSpPr>
        <p:sp>
          <p:nvSpPr>
            <p:cNvPr id="103" name=""/>
            <p:cNvSpPr/>
            <p:nvPr/>
          </p:nvSpPr>
          <p:spPr>
            <a:xfrm>
              <a:off x="698400" y="1197000"/>
              <a:ext cx="1311480" cy="4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oitto (€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21440" y="4076640"/>
              <a:ext cx="2806560" cy="90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yyntituotot (€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i suoritemäärä (kp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8400" y="5877000"/>
              <a:ext cx="14972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ppio (€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26920" y="1303200"/>
              <a:ext cx="7539120" cy="5050800"/>
              <a:chOff x="826920" y="1303200"/>
              <a:chExt cx="7539120" cy="5050800"/>
            </a:xfrm>
          </p:grpSpPr>
          <p:sp>
            <p:nvSpPr>
              <p:cNvPr id="107" name=""/>
              <p:cNvSpPr/>
              <p:nvPr/>
            </p:nvSpPr>
            <p:spPr>
              <a:xfrm>
                <a:off x="1071720" y="1843200"/>
                <a:ext cx="1440" cy="378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19440" y="3824280"/>
                <a:ext cx="1440" cy="180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58920" y="3824280"/>
                <a:ext cx="71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008080" y="1482840"/>
                <a:ext cx="0" cy="450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5960" y="5624640"/>
                <a:ext cx="2430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008080" y="1843200"/>
                <a:ext cx="5050080" cy="37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53040" y="3463920"/>
                <a:ext cx="18576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68600" y="2924280"/>
                <a:ext cx="1870200" cy="5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riittinen pis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200000">
                <a:off x="683280" y="4509000"/>
                <a:ext cx="180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iinteät kustannuks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6200000">
                <a:off x="506160" y="3101400"/>
                <a:ext cx="96516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atetuot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73720" y="1303200"/>
                <a:ext cx="2244600" cy="54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atetuottosuo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33680" y="3284640"/>
                <a:ext cx="56016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58160" y="18432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60920" y="3105000"/>
                <a:ext cx="1308240" cy="5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oit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81400" y="4003560"/>
                <a:ext cx="1122120" cy="5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appi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438800" y="4003560"/>
                <a:ext cx="261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3040" y="4003560"/>
                <a:ext cx="168120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Varmuus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rginaal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440200">
                <a:off x="1532160" y="4503960"/>
                <a:ext cx="1841760" cy="142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739" y="408"/>
                    </a:moveTo>
                    <a:arcTo wR="10800" hR="10800" stAng="-4452390" swAng="3586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739" y="408"/>
                    </a:moveTo>
                    <a:arcTo wR="10800" hR="10800" stAng="-4452390" swAng="358636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30560" y="4903920"/>
                <a:ext cx="747720" cy="54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071720" y="1843200"/>
                <a:ext cx="598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200" spc="-1" strike="noStrike">
                <a:solidFill>
                  <a:srgbClr val="006633"/>
                </a:solidFill>
                <a:latin typeface="Garamond"/>
              </a:rPr>
              <a:t>Sijoitetun pääoman tuot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Kertoo yrityksen todellisen kannattavu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Voidaan vertailla jopa eri toimialo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Oltava enemmän kuin suurimman rahoituserän korko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6:02:28Z</dcterms:created>
  <dc:creator>Patrick Ståhl</dc:creator>
  <dc:description/>
  <dc:language>en-US</dc:language>
  <cp:lastModifiedBy>Patrick Ståhl</cp:lastModifiedBy>
  <dcterms:modified xsi:type="dcterms:W3CDTF">2007-12-03T17:12:43Z</dcterms:modified>
  <cp:revision>2</cp:revision>
  <dc:subject/>
  <dc:title>KUSTANNUSLASKENTA KULJETUSYRITYKSEN PÄÄTÖKSENTEOSSA JA  TOIMINNAN SEURAAMISESSA</dc:title>
</cp:coreProperties>
</file>