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E60-7059-4402-A226-0867D567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E05-4F38-4394-83CD-B630FA5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51D-CDD2-437C-B786-ED092D36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BE5-0688-4A3C-B40B-F4C0A092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4734-C6FD-49C1-8A84-4E4FBF7B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9820-B0EC-455F-8598-F0348E7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9B3E-0690-46C8-9F9F-E1BDA86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8FB-9BCF-49C1-9925-E1C37086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578E-6D21-4E32-B8EF-FE6A700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7B57-6762-4420-85AC-B187FC2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2F2-D990-484C-B27F-AC5250E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FFF-C1F0-43D0-A3C1-EDEB0E4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9AE-45EB-4B46-B438-EA46FFC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2320-4F3D-4745-BD1C-ACC9A7B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A46A-62AD-4840-BC10-CF6E601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16C8-732D-4718-80F5-03AC31A2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B8C-18A7-44E9-B598-15633867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5F2-A7A0-4575-AEE9-86AD412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630-4FFE-4A36-A089-169A37A0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175-E593-4163-A8E9-D42B434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F88-3939-4767-A55D-22A6FB54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F33-4CC4-4FC2-9B0C-100ECF9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83D-4184-49C7-A81E-67C7CD9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685-1EF5-4890-9B8C-5D0ABB1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1DC-3B67-4872-91D9-DE1F43140CF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8527-0AC4-4D0E-BB5E-9698D45CCA3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Photo: Men sitting on logs stacked into a large pile before the logs will be floated to the mill, near Spanish River, Algoma District, [1902] 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684360" y="1700280"/>
            <a:ext cx="7848360" cy="4165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 u="sng">
                <a:solidFill>
                  <a:srgbClr val="ffffff"/>
                </a:solidFill>
                <a:uFillTx/>
                <a:latin typeface="Verdana"/>
              </a:rPr>
              <a:t>Massatavaran Ulkovarastoint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ffffff"/>
                </a:solidFill>
                <a:uFillTx/>
                <a:latin typeface="Verdana"/>
              </a:rPr>
              <a:t>”</a:t>
            </a:r>
            <a:r>
              <a:rPr b="0" lang="fi-FI" sz="2800" spc="-1" strike="noStrike" u="sng">
                <a:solidFill>
                  <a:srgbClr val="ffffff"/>
                </a:solidFill>
                <a:uFillTx/>
                <a:latin typeface="Verdana"/>
              </a:rPr>
              <a:t>Läjä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6165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trick Stå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Massatava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Ei pakkauks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Ei mitata lukumäärää vaan painoa tai tilavuut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Tasalaatuis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Halpa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Ei vaadi hienostunutta tekniikkaa käsittelyy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Massatavara ulkon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Ei saa olla herkkä sääl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Verdana"/>
              </a:rPr>
              <a:t>Lämpötil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Verdana"/>
              </a:rPr>
              <a:t>Kosteu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Puutavara (Tukit, Hak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Kiviainekse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Tur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Varastointi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Asemakaavoissa säädeltyä toiminta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Yleensä sijoitettava keskitetysti tontil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Tarpeeton romu ja jäte kiellet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Kerää herkästi huomi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Yleensä aiheuttaa paljon raskasta liikennettä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Ulkovarastointi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lkovarastoinnista on säädetty maankäyttö- ja rakennuslain 169 §:ssä. Sen mukaan asemakaava-alueen ulkopuolella varastointi on ulkosalla järjestettävä niin, ettei se turmele tieltä tai muulta yleiseltä kulkuväylältä tai alueelta näkyvää maisemaa taikka häiritse ympäröivää asutusta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Rakenteet ja infrastruktuuri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Hanasaaren A-voimala sai kaupunginhallitukselta purkutuomion"/>
          <p:cNvPicPr/>
          <p:nvPr/>
        </p:nvPicPr>
        <p:blipFill>
          <a:blip r:embed="rId2"/>
          <a:stretch/>
        </p:blipFill>
        <p:spPr>
          <a:xfrm>
            <a:off x="1692360" y="2133720"/>
            <a:ext cx="55180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ffffff"/>
                </a:solidFill>
                <a:latin typeface="Verdana"/>
              </a:rPr>
              <a:t>Käsittelylaittee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Kertainvestointina kallii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Verdana"/>
              </a:rPr>
              <a:t>Käytössä pitkää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229536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659640" y="1700280"/>
            <a:ext cx="229536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http://www.jr-kuriiri.fi/kuormaaja.jpg"/>
          <p:cNvPicPr/>
          <p:nvPr/>
        </p:nvPicPr>
        <p:blipFill>
          <a:blip r:embed="rId5"/>
          <a:stretch/>
        </p:blipFill>
        <p:spPr>
          <a:xfrm>
            <a:off x="611280" y="3357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4:47:06Z</dcterms:created>
  <dc:creator>Patrick Ståhl</dc:creator>
  <dc:description/>
  <dc:language>en-US</dc:language>
  <cp:lastModifiedBy>Patrick Ståhl</cp:lastModifiedBy>
  <dcterms:modified xsi:type="dcterms:W3CDTF">2007-10-07T20:14:37Z</dcterms:modified>
  <cp:revision>4</cp:revision>
  <dc:subject/>
  <dc:title>Massatavaran Ulkovarastointi</dc:title>
</cp:coreProperties>
</file>