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343-057C-441A-82EE-8830E8B4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1D2-4EED-454E-AAF3-5FDFB098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370-0925-4CB3-B0D0-0515C6C5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950-63F5-411C-BF27-E1201B08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93B1-D243-43B7-B650-522F7F5F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0BB2-A373-49DA-8FB6-CCCD85F6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4DF1-FC5C-4083-9982-A35C391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0D89-E669-436A-AD31-05BC65B1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3803-521F-4D60-934A-F71823FE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6BA0-0766-4E06-95F2-653EE2B4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7976-01B6-4165-9060-4F48696B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FB5-3D52-4CA7-A9F0-E4A178C7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FE63-8B70-4714-97B2-F43120C5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D0A9-5A83-4C84-AD19-4638BDDD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C4D6-F1A6-4BD6-BF34-B70A20CA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BE7E-5439-4C64-A4B5-5C053FD2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E178-E483-4E81-A4A1-7CFF282C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A01-A4B2-46EB-831C-8810AA83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BAD-32B7-47DE-BFB2-E8AFED70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30E-ABFD-4BC4-A81D-FAFA8110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DD4-6287-41FB-B2C4-482B0ECF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D29-3A51-469F-B0B7-C9E272F3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B5E-E588-4910-8750-59B8275E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3B9-A476-4951-AE74-664378BC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0E10-D2B2-4E4B-BE9B-C38CC5D46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4653000"/>
            <a:ext cx="7578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2667-08B9-4E87-B172-F5262C4A9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Arial"/>
              </a:rPr>
              <a:t>Riskikartoi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836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Verdana"/>
              </a:rPr>
              <a:t>Lämpösäädellyt maantiekuljetukset länsieuroopa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59500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atrick Ståh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00"/>
                </a:solidFill>
                <a:latin typeface="Arial"/>
              </a:rPr>
              <a:t>Thermokuljetukset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Verdana"/>
              </a:rPr>
              <a:t>Pääsääntöisesti Espaniasta tai Ranskas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Verdana"/>
              </a:rPr>
              <a:t>HEVI- tai pakastetuotte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Verdana"/>
              </a:rPr>
              <a:t>Tarkat lämpöraj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Verdana"/>
              </a:rPr>
              <a:t>Aikataulut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Verdana"/>
              </a:rPr>
              <a:t>Reit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00"/>
                </a:solidFill>
                <a:latin typeface="Arial"/>
              </a:rPr>
              <a:t>Reitti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400720" cy="499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3203640" y="3499920"/>
            <a:ext cx="1728720" cy="2233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27640" y="3500280"/>
            <a:ext cx="649080" cy="649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03640" y="2276280"/>
            <a:ext cx="1008360" cy="1153800"/>
          </a:xfrm>
          <a:prstGeom prst="line">
            <a:avLst/>
          </a:prstGeom>
          <a:ln w="507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00"/>
                </a:solidFill>
                <a:latin typeface="Arial"/>
              </a:rPr>
              <a:t>Riskien määrittely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Verdana"/>
              </a:rPr>
              <a:t>Tekninen v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Verdana"/>
              </a:rPr>
              <a:t>Kuorman pilaantumi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Verdana"/>
              </a:rPr>
              <a:t>Kuorman myöhästymi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Verdana"/>
              </a:rPr>
              <a:t>Inhimillinen virhe tai huolimattomu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Verdana"/>
              </a:rPr>
              <a:t>Kuorman pilaantumi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Verdana"/>
              </a:rPr>
              <a:t>Kuorman myöhästymi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00"/>
                </a:solidFill>
                <a:latin typeface="Arial"/>
              </a:rPr>
              <a:t>Riskien luokittelu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38040" y="3238560"/>
          <a:ext cx="8554680" cy="2614320"/>
        </p:xfrm>
        <a:graphic>
          <a:graphicData uri="http://schemas.openxmlformats.org/drawingml/2006/table">
            <a:tbl>
              <a:tblPr/>
              <a:tblGrid>
                <a:gridCol w="608400"/>
                <a:gridCol w="3974040"/>
                <a:gridCol w="39722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akavu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reqvens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li 10000 E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rran vuodes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0-10000 E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uukausitt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-1000 E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iikoitt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3300"/>
                </a:solidFill>
                <a:latin typeface="Arial"/>
              </a:rPr>
              <a:t>Riskikertoimet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4000" y="2997360"/>
          <a:ext cx="8281800" cy="194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997360"/>
                    <a:ext cx="8281800" cy="1944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6:34:26Z</dcterms:created>
  <dc:creator>Patrick Ståhl</dc:creator>
  <dc:description/>
  <dc:language>en-US</dc:language>
  <cp:lastModifiedBy>Patrick Ståhl</cp:lastModifiedBy>
  <dcterms:modified xsi:type="dcterms:W3CDTF">2008-10-14T16:48:45Z</dcterms:modified>
  <cp:revision>2</cp:revision>
  <dc:subject/>
  <dc:title>Riskikartoitus</dc:title>
</cp:coreProperties>
</file>