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2B9D-43D6-4552-9138-D62BCE92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66C7-E654-4DB5-83E8-F8510627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664-9B65-4B37-8ECE-6366881E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3BB-3CA1-497E-8B59-BBDEF493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D9BB-3C95-4E6F-8BD9-F9477416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CE07-A85B-41B1-9E1B-2524430A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11EA-CA59-4884-86CE-8C96B18E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A2B2-4A75-475D-A62A-DF26C6AB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2E32-703C-4190-B926-82010ECC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DFF7-4015-49B5-9910-E41A5BCB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6A84-43AA-4DB6-85E4-F7CDC891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8C90-8BD5-4D17-ABB9-333B6D39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79D4-D254-4BE4-9384-E5E5C123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C5AC-763E-4BDE-BE93-0B2E4657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2593-DC07-4248-A25F-B0B7A1E1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79AA-612A-4367-B603-68553C0E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8586-6CE3-4F68-B586-78789A0E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7B1-81B0-4C6F-9221-B51C3311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D71-1003-4557-8A6B-E59BD79F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16B-B64A-4A06-B3CF-86FC88D8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B66-ACE8-49BF-9754-27F30686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932-2E6A-4BA0-8AF8-59EA8180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6FB-4A20-4EC6-8702-D645B8CD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88E-7F46-48F7-AB5C-85F88EE2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B7C7-106A-4FA0-AD42-AC88C41A30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590B-BF1D-4B49-8645-E259C1C666F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5800" spc="-1" strike="noStrike">
                <a:solidFill>
                  <a:srgbClr val="999900"/>
                </a:solidFill>
                <a:latin typeface="Garamond"/>
              </a:rPr>
              <a:t>ATRIA GROUP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Good food – better moo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2514600" cy="447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999900"/>
                </a:solidFill>
                <a:latin typeface="Garamond"/>
              </a:rPr>
              <a:t>ATRIA in brief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Food processing compan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Finlands largest meat process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Employs 650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mpany develops, manufactures and markets, with Finnish meat production as its basis, mainly meat, meat-based products and foods, and the associated servic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2514600" cy="447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999900"/>
                </a:solidFill>
                <a:latin typeface="Garamond"/>
              </a:rPr>
              <a:t>Financial summar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2520720" cy="280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132000" y="1700280"/>
            <a:ext cx="2670480" cy="3743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867280" y="1628640"/>
            <a:ext cx="2527560" cy="3529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2514600" cy="447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999900"/>
                </a:solidFill>
                <a:latin typeface="Garamond"/>
              </a:rPr>
              <a:t>Rati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2005 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2006 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rnov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977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103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27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ange in turnover %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7.0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3.0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5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wned capital M€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75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13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7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bt M€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07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45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2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ploye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433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740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94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rating profit M€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0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2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9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t Profit M€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7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7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ROI%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10.0 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7.0 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1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ID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quity ratio-%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3.0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3.0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8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t debt M€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189 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210 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Verdana"/>
              </a:rPr>
              <a:t>28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514600" cy="44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8028000" y="260280"/>
            <a:ext cx="762120" cy="514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9:42:33Z</dcterms:created>
  <dc:creator>Administrator</dc:creator>
  <dc:description/>
  <dc:language>en-US</dc:language>
  <cp:lastModifiedBy>Administrator</cp:lastModifiedBy>
  <dcterms:modified xsi:type="dcterms:W3CDTF">2008-02-27T10:22:48Z</dcterms:modified>
  <cp:revision>8</cp:revision>
  <dc:subject/>
  <dc:title>ATRIA GROUP</dc:title>
</cp:coreProperties>
</file>