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D2C5-7F6C-49C8-A5FF-5D2E2C21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BB9B-0F2E-4EF4-A623-67C4554A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1C9C-2CC2-4E79-A442-6570B32B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35D9-4E14-4DF2-9980-1395A465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F85-319E-40E3-A8CD-90D9F036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9D9-B60C-4E13-B6BB-1A4443E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06FF-D6D1-44D7-BC01-A14310F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691-83F4-4373-B8C4-2979C780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B2D-6ABB-46CC-9FD7-8669F02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BAF-8B0B-4D78-B0D1-DCDE5FF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614B-596E-438A-A6AC-CBE4338C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9FD4-754C-4077-B723-8C963AA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2A31-41F9-4ABF-A687-5764B82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254B-BFBD-45BB-B87B-EDC4FCF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81DD-97C8-4EB2-B111-1AA0BC6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83B-74CF-480C-8511-6F7A867E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839A-EB35-46E2-80F9-ACE3B12D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A72B-EA9F-4D4F-8A0F-0C58BC2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C9F1-4140-40D3-A292-311AE36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24F6-383D-423D-80AF-10CC3B0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92B9-FCCB-40D2-93F3-F53D53B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4849-4738-4C4D-9549-5283AA3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F4CE-1A54-4807-B281-CF1C7DA2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164D-1420-4EA6-A3A2-567FEAC8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5D9-4708-4513-BA35-CF1839280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EB3-1529-477D-85E2-E2D2C0E71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0" spc="-1" strike="noStrike">
                <a:solidFill>
                  <a:srgbClr val="e5e5ff"/>
                </a:solidFill>
                <a:latin typeface="Garamond"/>
              </a:rPr>
              <a:t>Palo &amp; Nieminen Henkilöstövuokrau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Yritysid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Liiketalouden alan henkilöstövuokrausyrit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Toimii PK-seudul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Kahden kunnianhimoisen tradenomin perustama avoin yhti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Yhteistyössä alan koulujen kans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Palvel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Garamond"/>
              </a:rPr>
              <a:t>Henkilöstövuokrau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Garamond"/>
              </a:rPr>
              <a:t>Ulkoistamine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Garamond"/>
              </a:rPr>
              <a:t>Headhunt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Toteuttamiskelpoisu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Erikoistuminen taloushallinnon henkilöstön välittämis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Ei vaadi suurta alkupääoma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Alalla hyvät tulevaisuudennäkymä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Yrittäjillä laaja suhdeverkosto yritysmaailmas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Kilpailutilan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Pääkaupunkiseudulla noin 200 henkilöstöpalveluita tarjoavaa yrityst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Vain muutama erikoistunut välittämään taloushallintoalan ammattila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Markkinoin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Kohdemarkkinat jakautuneet kahteen erilliseen kokonaisuut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Garamond"/>
              </a:rPr>
              <a:t>Asiakasyrityk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Garamond"/>
              </a:rPr>
              <a:t>Työntekijä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Erikoistuminen pelkästään taloushallinnon henkilöstöö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Verkkosivu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Risk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Kilpailutilan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Ongelmat yhteistyökumppaneiden kans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Vuokratyön meneminen pois muod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Yhtiömiesten keskinäinen riitautumin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Alan henkilöstön haluttomuus vuokratyöhö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Vuokratyön kysynnän lasku alall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e5e5ff"/>
                </a:solidFill>
                <a:latin typeface="Garamond"/>
              </a:rPr>
              <a:t>Rahoi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Kumpikin yhtiömies sijoittaa 2500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Vierasta pääomaa 5000€:n pankkila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Haetaan valtion starttiraha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Garamond"/>
              </a:rPr>
              <a:t>Yritys on varautunut kolmen kuukauden menoihin ennen tulorahoitukseen siirtymist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8:10:55Z</dcterms:created>
  <dc:creator>Administrator</dc:creator>
  <dc:description/>
  <dc:language>en-US</dc:language>
  <cp:lastModifiedBy>Administrator</cp:lastModifiedBy>
  <dcterms:modified xsi:type="dcterms:W3CDTF">2007-10-17T09:22:01Z</dcterms:modified>
  <cp:revision>5</cp:revision>
  <dc:subject/>
  <dc:title>Palo &amp; Nieminen Henkilöstövuokraus</dc:title>
</cp:coreProperties>
</file>