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4E8A-5FC5-4F4A-A2AC-FFC37C610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6D34-39DD-429E-BAC2-4C26856A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F346-7FF9-4602-A174-DE2C62754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12FA-BBCD-4531-B28D-344DF54BC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6BB0-0773-49FF-8FE0-09ECBD198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6C76-EBBB-4302-AF68-82AB502D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10927-3B34-4AF4-A305-32895684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A06BF-57C6-490D-97E5-A5BA25AE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5468-4585-4F72-92F4-C1333222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39BC-DC7D-4544-BE6C-BA6D41EBE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F6F1-3C74-4911-8FD0-7AE2C667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F494-448C-44F8-A57D-BD37D571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9512-2993-432A-B96E-218417F1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8383-D888-4C33-91FB-4ECB1437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EC36-A181-46C2-8A9A-756FA221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C67D-098F-4EC5-8806-54D25FC7F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D2AC-B170-4E83-9AD7-A475CCE9F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7740-923C-4ED2-93E9-636E7554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AC00-4D18-42C8-9F7F-2091B4E3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B954-F2AE-4423-A568-ADD975DE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2977-A8D2-4C32-8444-F5EAF25A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C392-D829-44DA-8C1F-AF8B20FB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9802-C4EA-4165-A611-AB1F1AE0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AC3D-5FCC-4820-A242-0D03DC51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DF2B-71AE-40EA-B059-1DC2DF119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c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B408-AD59-4406-95AE-C961F7E99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c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5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Impact"/>
              </a:rPr>
              <a:t>Aaron Syväni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Impact"/>
              </a:rPr>
              <a:t>Mikko Joki-Korp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Impact"/>
              </a:rPr>
              <a:t>Kimmo Krö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952720" cy="852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952720" cy="85248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Impact"/>
              </a:rPr>
              <a:t>Tulikivi O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vantGarde Md BT"/>
              </a:rPr>
              <a:t>Finska täljenstens AB (Finnish Soapstone ltd.) established 18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vantGarde Md BT"/>
              </a:rPr>
              <a:t>1939-1979 Electric cook stoves and central heating replace wood stoves and firepla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vantGarde Md BT"/>
              </a:rPr>
              <a:t>1979 Reijo Vauhkonen acquires Suomen Vuolukivi O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vantGarde Md BT"/>
              </a:rPr>
              <a:t>1993 The company changes its name to Tulikivi Oy, following its international brand na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Impact"/>
              </a:rPr>
              <a:t>Tulikivi in sh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vantGarde Md BT"/>
              </a:rPr>
              <a:t>A listed family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vantGarde Md BT"/>
              </a:rPr>
              <a:t>The world’s largest manufacturer of heat-retaining firep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vantGarde Md BT"/>
              </a:rPr>
              <a:t>The Group’s revenue amounts to 80 million 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vantGarde Md BT"/>
              </a:rPr>
              <a:t>The Group employs over 700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Impact"/>
              </a:rPr>
              <a:t>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AvantGarde Md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vantGarde Md BT"/>
              </a:rPr>
              <a:t>Bring warmth and comfort to your h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AvantGarde Md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vantGarde Md BT"/>
              </a:rPr>
              <a:t>Produce high-quality branded products that sit well with your interior deco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AvantGarde Md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vantGarde Md BT"/>
              </a:rPr>
              <a:t>Take environmental impacts into consideration in the design and manufa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Impact"/>
              </a:rPr>
              <a:t>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vantGarde Md BT"/>
              </a:rPr>
              <a:t>Cou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vantGarde Md BT"/>
              </a:rPr>
              <a:t>Being pro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vantGarde Md BT"/>
              </a:rPr>
              <a:t>Thinking with an eye on the fu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vantGarde Md BT"/>
              </a:rPr>
              <a:t>Fair 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Impact"/>
              </a:rPr>
              <a:t>Firepl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vantGarde Md BT"/>
              </a:rPr>
              <a:t>Tulikivi </a:t>
            </a:r>
            <a:r>
              <a:rPr b="0" lang="en-GB" sz="2400" spc="-1" strike="noStrike">
                <a:solidFill>
                  <a:srgbClr val="000000"/>
                </a:solidFill>
                <a:latin typeface="AvantGarde Md BT"/>
              </a:rPr>
              <a:t>have the most extensive range of firep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vantGarde Md BT"/>
              </a:rPr>
              <a:t>Wide selections from classic models to new, modern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vantGarde Md BT"/>
              </a:rPr>
              <a:t>Basic design is making them a good fit for any 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vantGarde Md BT"/>
              </a:rPr>
              <a:t>Tulikvi </a:t>
            </a:r>
            <a:r>
              <a:rPr b="0" lang="en-GB" sz="2400" spc="-1" strike="noStrike">
                <a:solidFill>
                  <a:srgbClr val="000000"/>
                </a:solidFill>
                <a:latin typeface="AvantGarde Md BT"/>
              </a:rPr>
              <a:t>fireplaces are made of soapst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vantGarde Md BT"/>
              </a:rPr>
              <a:t>They are efficient at retaining hea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vantGarde Md BT"/>
              </a:rPr>
              <a:t>Heat releases slowly and eve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Impact"/>
              </a:rPr>
              <a:t>Product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87878"/>
                </a:solidFill>
                <a:latin typeface="AvantGarde Md BT"/>
              </a:rPr>
              <a:t>Lightweight firep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vantGarde Md BT"/>
              </a:rPr>
              <a:t>Clean and light lines for creating atmo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87878"/>
                </a:solidFill>
                <a:latin typeface="AvantGarde Md BT"/>
              </a:rPr>
              <a:t>Bakeov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vantGarde Bk BT"/>
              </a:rPr>
              <a:t>burn wood separately in the firebox of the fireplace or in the bakeoven</a:t>
            </a: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87878"/>
                </a:solidFill>
                <a:latin typeface="AvantGarde Md BT"/>
              </a:rPr>
              <a:t>Flat g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vantGarde Md BT"/>
              </a:rPr>
              <a:t>Room divider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87878"/>
                </a:solidFill>
                <a:latin typeface="AvantGarde Md BT"/>
              </a:rPr>
              <a:t>Tulikivi-whirl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vantGarde Md BT"/>
              </a:rPr>
              <a:t>New models also features also modular bench and shelf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Impact"/>
              </a:rPr>
              <a:t>Custom-made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vantGarde Bk BT"/>
              </a:rPr>
              <a:t>You can use your own ideas with desig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3924360" y="2421000"/>
            <a:ext cx="4306680" cy="272556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324000" y="2924280"/>
            <a:ext cx="3058920" cy="367344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3851280" y="5661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vantGarde Md BT"/>
              </a:rPr>
              <a:t>Gas operated fire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24000" y="227664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vantGarde Md BT"/>
              </a:rPr>
              <a:t>Small stone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Impact"/>
              </a:rPr>
              <a:t>Heating techn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6" name="ShockwaveFlash1"/>
          <p:cNvGraphicFramePr/>
          <p:nvPr/>
        </p:nvGraphicFramePr>
        <p:xfrm>
          <a:off x="2411280" y="1557360"/>
          <a:ext cx="4186440" cy="20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7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557360"/>
                    <a:ext cx="4186440" cy="2044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28" name=""/>
          <p:cNvSpPr/>
          <p:nvPr/>
        </p:nvSpPr>
        <p:spPr>
          <a:xfrm>
            <a:off x="324000" y="3933720"/>
            <a:ext cx="73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vantGarde Md BT"/>
              </a:rPr>
              <a:t>Tulikivi fireplace emits heat evenly over the hole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692360" y="472428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vantGarde Md BT"/>
              </a:rPr>
              <a:t>Pleasantly warm remains for a long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808360" y="5589720"/>
            <a:ext cx="63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vantGarde Md BT"/>
              </a:rPr>
              <a:t>You can even lean against the side of the fire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07:16:50Z</dcterms:created>
  <dc:creator>Administrator</dc:creator>
  <dc:description/>
  <dc:language>en-US</dc:language>
  <cp:lastModifiedBy>HBC</cp:lastModifiedBy>
  <dcterms:modified xsi:type="dcterms:W3CDTF">2007-05-08T09:39:42Z</dcterms:modified>
  <cp:revision>9</cp:revision>
  <dc:subject/>
  <dc:title>TULIKIVI</dc:title>
</cp:coreProperties>
</file>